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801600" cy="96012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538-ED72-4FC0-BB99-6562F668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01E-EE67-4765-A2CA-10C1DA47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4DE-355F-4F1E-9CC2-4D7F86AA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CD1-CCA4-4C27-98DB-7C54FBB1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D81-EE0F-44F4-942A-173BDAE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470-F673-4744-8A2F-0BDF7237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0BE-B4F9-4261-84A1-F531F38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A8C-2FD3-4CC4-9F89-45D8AA3D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D93-10A0-465E-AD76-83C60B8F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046-C0CB-40B3-8679-31FB498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D36-5E45-41A8-9DEC-D308FBF0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124-7E78-4A2E-927F-F8EF9C04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E7F6F66-770E-4FD2-9852-DDA3C909E9C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6920" y="1677960"/>
            <a:ext cx="10183680" cy="7458120"/>
          </a:xfrm>
          <a:prstGeom prst="rect">
            <a:avLst/>
          </a:prstGeom>
          <a:gradFill rotWithShape="0">
            <a:gsLst>
              <a:gs pos="0">
                <a:srgbClr val="00ff00">
                  <a:alpha val="40000"/>
                </a:srgbClr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6840" y="1676520"/>
            <a:ext cx="100080" cy="74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94400" y="1676520"/>
            <a:ext cx="100080" cy="74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10520" y="1676520"/>
            <a:ext cx="100080" cy="74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23400" y="1676520"/>
            <a:ext cx="100080" cy="74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36280" y="1676520"/>
            <a:ext cx="100080" cy="74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79720" y="1676520"/>
            <a:ext cx="100080" cy="74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560" y="308916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560" y="460044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560" y="611172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560" y="762480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1000" y="772488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000" y="621180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1000" y="470052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318924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1000" y="167652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264960"/>
            <a:ext cx="16146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83040" y="264960"/>
            <a:ext cx="16128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95920" y="264960"/>
            <a:ext cx="16146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10600" y="264960"/>
            <a:ext cx="16128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23480" y="264960"/>
            <a:ext cx="16128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36360" y="264960"/>
            <a:ext cx="161424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114480" y="814500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111240" y="669348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122400" y="520776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122400" y="368208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EV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-133560" y="223740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E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6920" y="26496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79800" y="7711920"/>
            <a:ext cx="16146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’s no WIP limit, but there’s a feeling/urge of to much happening at o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6920" y="7711920"/>
            <a:ext cx="16128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erent Work types are vi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 for team is visualiz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9800" y="6199200"/>
            <a:ext cx="1614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’s no WIP limit, but commitment to finishing work before starting n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79800" y="4687920"/>
            <a:ext cx="1614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 explicit WIP limits not based on workflow ye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like per person, or still infinite waiting/done queu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79800" y="3176640"/>
            <a:ext cx="1614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plicit WIP limits at workflow level – single workflow full pu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79800" y="1662120"/>
            <a:ext cx="16146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interdependent workflows with pull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6920" y="619920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rent team focus (avatar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flows visible (process, way-of-working, value strea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468792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rent Policies (DoD, DoW, capacity allocations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lock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6920" y="317664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rics (lead-times, cycle-times, SLA targe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P limi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ady for pu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1676520"/>
            <a:ext cx="1612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sk dimensions (cost of delay, tech risk, market ris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 workflow dependen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 work dependen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94480" y="7711920"/>
            <a:ext cx="16128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ily team stand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94480" y="619920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rs go and see regularl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walk the ‘gemba’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y stakeholders are regularly updated on 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94480" y="468792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discussions with up- and downstream partner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team retro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94480" y="317664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discussion about Quality KP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discussion about financial perform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94480" y="1662120"/>
            <a:ext cx="16128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means at least once per mon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21680" y="7723080"/>
            <a:ext cx="16131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pull work (selection and priorization of WI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tion of Work and Work typ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21680" y="6210360"/>
            <a:ext cx="16131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ff allocation / work assign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o and when manages the Next and Done 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21680" y="4687920"/>
            <a:ext cx="16131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o, when and how to estimate work si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tion of Ready for N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23480" y="3173400"/>
            <a:ext cx="16128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tion of Done at all ste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select and prepare for N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 size of worki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23480" y="1673280"/>
            <a:ext cx="16128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pacity Allo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es of 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owledge spreading/sharing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560" y="1676520"/>
            <a:ext cx="1511280" cy="74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0600" y="7711920"/>
            <a:ext cx="16128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 knows why they exist and criteria for suc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07360" y="6211800"/>
            <a:ext cx="16142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retrospectives / Kaizen 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07360" y="4687920"/>
            <a:ext cx="16142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ue North” exists and is known / communicated to and by team  (team miss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knows its current condition (metric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07360" y="3176640"/>
            <a:ext cx="16142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’s validation criteria for target condition to know when it is reach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knows current target (and condi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10600" y="1649520"/>
            <a:ext cx="1612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learns from their PDCA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knows which obstacles there are and PD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9800" y="264960"/>
            <a:ext cx="16146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mit W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94480" y="26496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dback lo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10600" y="26496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21680" y="264960"/>
            <a:ext cx="161316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icies explic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36360" y="264960"/>
            <a:ext cx="161424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age fl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36360" y="7724880"/>
            <a:ext cx="16142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lockers for team are escalated for resolu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ily planning mee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36360" y="6211800"/>
            <a:ext cx="16142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xt is re-prioritized continuously – (no commitment in Next) – Deferred Pull deci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36360" y="4699080"/>
            <a:ext cx="161424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ze of ongoing work is limited (large work is broken down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FDs and Control Charts (updated 1/w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36360" y="3173400"/>
            <a:ext cx="16142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low Metrics (days blocked, lead-time efficienc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dence established (plan/deliver/ret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lexible staff allocation/swar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36360" y="1687680"/>
            <a:ext cx="161424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pacity allo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LA expectations and forecasts (lead-time targe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560" y="7724880"/>
            <a:ext cx="1511280" cy="1374840"/>
          </a:xfrm>
          <a:prstGeom prst="rect">
            <a:avLst/>
          </a:prstGeom>
          <a:gradFill rotWithShape="0">
            <a:gsLst>
              <a:gs pos="0">
                <a:srgbClr val="808080">
                  <a:alpha val="3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EN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am sees the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g pi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team level – vs local situatio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560" y="6211800"/>
            <a:ext cx="1511280" cy="1376280"/>
          </a:xfrm>
          <a:prstGeom prst="rect">
            <a:avLst/>
          </a:prstGeom>
          <a:gradFill rotWithShape="0">
            <a:gsLst>
              <a:gs pos="0">
                <a:srgbClr val="808080">
                  <a:alpha val="3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NO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am spirit is up, focused on finishing work and removing block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560" y="4700520"/>
            <a:ext cx="1511280" cy="1411200"/>
          </a:xfrm>
          <a:prstGeom prst="rect">
            <a:avLst/>
          </a:prstGeom>
          <a:gradFill rotWithShape="0">
            <a:gsLst>
              <a:gs pos="0">
                <a:srgbClr val="808080">
                  <a:alpha val="3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AVA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am works on the “right” things, are not overloaded and are motivated to improv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560" y="3189240"/>
            <a:ext cx="1511280" cy="1398600"/>
          </a:xfrm>
          <a:prstGeom prst="rect">
            <a:avLst/>
          </a:prstGeom>
          <a:gradFill rotWithShape="0">
            <a:gsLst>
              <a:gs pos="0">
                <a:srgbClr val="808080">
                  <a:alpha val="3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ADVA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am drives process evolution (visualize, workflow, policies, WIP limi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560" y="1676520"/>
            <a:ext cx="1511280" cy="1411200"/>
          </a:xfrm>
          <a:prstGeom prst="rect">
            <a:avLst/>
          </a:prstGeom>
          <a:gradFill rotWithShape="0">
            <a:gsLst>
              <a:gs pos="0">
                <a:srgbClr val="808080">
                  <a:alpha val="3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COMPLE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d depth of Kanban implementation across the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840" y="324000"/>
            <a:ext cx="19112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D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Y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ANBA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9360" y="9217080"/>
            <a:ext cx="73454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m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4800" y="9266400"/>
            <a:ext cx="49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ased on Christophe Achouiantz’s Depth of Kanban Coaching tool: http://leanagileprojects.blogspot.se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40800" y="42840"/>
            <a:ext cx="27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ke Pruis (twitter: @mipr_nl / www.digitalwizardry.n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66920" y="1778040"/>
            <a:ext cx="10183680" cy="7458120"/>
          </a:xfrm>
          <a:prstGeom prst="rect">
            <a:avLst/>
          </a:prstGeom>
          <a:gradFill rotWithShape="0">
            <a:gsLst>
              <a:gs pos="0">
                <a:srgbClr val="00ff00">
                  <a:alpha val="40000"/>
                </a:srgbClr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6840" y="1776240"/>
            <a:ext cx="100080" cy="74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4400" y="1776240"/>
            <a:ext cx="100080" cy="74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0520" y="1776240"/>
            <a:ext cx="100080" cy="74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23400" y="1776240"/>
            <a:ext cx="100080" cy="74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736280" y="1776240"/>
            <a:ext cx="100080" cy="74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79720" y="1776240"/>
            <a:ext cx="100080" cy="74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560" y="318924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560" y="470052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560" y="621180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560" y="7724880"/>
            <a:ext cx="117950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1000" y="782496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1000" y="631188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480060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000" y="3289320"/>
            <a:ext cx="12099600" cy="1411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1000" y="1776240"/>
            <a:ext cx="12099600" cy="1411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65040"/>
            <a:ext cx="16146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83040" y="365040"/>
            <a:ext cx="16128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95920" y="365040"/>
            <a:ext cx="16146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10600" y="365040"/>
            <a:ext cx="16128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23480" y="365040"/>
            <a:ext cx="161280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36360" y="365040"/>
            <a:ext cx="1614240" cy="887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114480" y="824544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111240" y="679356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122400" y="530748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122400" y="378216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-122400" y="2284920"/>
            <a:ext cx="12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560" y="1776240"/>
            <a:ext cx="1511280" cy="745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6920" y="36504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lom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79800" y="365040"/>
            <a:ext cx="16146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lom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4480" y="36504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lom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10600" y="36504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lom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23480" y="365040"/>
            <a:ext cx="161280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lom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36360" y="365040"/>
            <a:ext cx="1614240" cy="1419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lom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560" y="1776240"/>
            <a:ext cx="1511280" cy="141156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COMPLE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560" y="7824960"/>
            <a:ext cx="1511280" cy="13744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EN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560" y="6311880"/>
            <a:ext cx="1511280" cy="137628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NO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560" y="4800600"/>
            <a:ext cx="1511280" cy="141120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AVA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560" y="3289320"/>
            <a:ext cx="1511280" cy="1398600"/>
          </a:xfrm>
          <a:prstGeom prst="rect">
            <a:avLst/>
          </a:prstGeom>
          <a:gradFill rotWithShape="0">
            <a:gsLst>
              <a:gs pos="0">
                <a:srgbClr val="808080">
                  <a:alpha val="20000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 Black"/>
              </a:rPr>
              <a:t>ADVAN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177624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6920" y="3287880"/>
            <a:ext cx="1612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6920" y="4800600"/>
            <a:ext cx="16128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631332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6920" y="7824960"/>
            <a:ext cx="1612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78360" y="177624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78360" y="3287880"/>
            <a:ext cx="1612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78360" y="4800600"/>
            <a:ext cx="16128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78360" y="6313320"/>
            <a:ext cx="16128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78360" y="7824960"/>
            <a:ext cx="16128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80080" y="1757520"/>
            <a:ext cx="1611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80080" y="3268800"/>
            <a:ext cx="1611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80080" y="4782960"/>
            <a:ext cx="1611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80080" y="6296040"/>
            <a:ext cx="1611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80080" y="7807320"/>
            <a:ext cx="1611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1768320"/>
            <a:ext cx="1611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10600" y="3279600"/>
            <a:ext cx="1611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10600" y="4791240"/>
            <a:ext cx="16110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10600" y="6305400"/>
            <a:ext cx="1611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10600" y="7816680"/>
            <a:ext cx="1611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10520" y="1757520"/>
            <a:ext cx="1611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10520" y="3268800"/>
            <a:ext cx="1611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10520" y="4782960"/>
            <a:ext cx="1611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10520" y="6296040"/>
            <a:ext cx="1611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10520" y="7807320"/>
            <a:ext cx="1611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36360" y="1757520"/>
            <a:ext cx="1611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36360" y="3268800"/>
            <a:ext cx="16113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36360" y="4782960"/>
            <a:ext cx="1611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36360" y="6296040"/>
            <a:ext cx="1611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36360" y="7807320"/>
            <a:ext cx="1611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50400" bIns="50400" anchor="t">
            <a:no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09:23:33Z</dcterms:created>
  <dc:creator>Mike Pruis</dc:creator>
  <dc:description/>
  <dc:language>en-US</dc:language>
  <cp:lastModifiedBy>Mike Pruis</cp:lastModifiedBy>
  <dcterms:modified xsi:type="dcterms:W3CDTF">2014-07-15T13:55:59Z</dcterms:modified>
  <cp:revision>21</cp:revision>
  <dc:subject/>
  <dc:title>Maturity Matrix</dc:title>
</cp:coreProperties>
</file>